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8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9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0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F8FC-C89D-436B-AF7B-E30F580AA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A47E-08BB-4646-9499-D047F6D947B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960F-FDDC-4450-9763-19F4147DC2B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F803-7B78-4801-A92D-71314E33D3B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5BD-F65A-44B0-98E3-9840AF54DA0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FF2E-98DC-4B06-8A83-FEB4C075E1B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5AD9-9B1B-4905-807E-F9540DABBE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713F-8E0D-40BD-BC21-8A692BCCC42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62F1-55A0-4821-B663-98F203183A3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6B7A-D6F9-4C20-A3BA-18113F5B35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879E-55A2-4B02-8EDB-0EA9ABB614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14FD-3060-4EEB-93B9-6589DBB4EC1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E57B-CCD9-4B32-B157-64BF4F7322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BCE7-B90D-4D42-A0F4-D0839A9EA7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09FE-7E2F-4D35-A53F-8847546E30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23F4-59AF-44AA-8720-B4BFAAD3F8B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F6C9-22DE-444C-8079-FB3C95CBA25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15EC-D571-4150-A5D7-F89E211F81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57A3-7741-4B3F-87D1-288249C2E3D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6C61-1688-44FB-A9C9-5C913EAF2B0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1302-524A-41CC-9023-E4F82883C9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FAB2-8E6A-4D89-A61E-062441DCE0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F5C6-86CB-4F2D-98E1-93D9F1DBE4E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9208-8222-4AD5-A9C7-DA2E227864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394C-8DA5-4CE0-8A52-09F91048513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38D2-0A91-45FE-B999-583CDC4DD85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151E-ECA9-40BC-8F7A-89A003B60FE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25DA-7DF9-4B18-872B-A2FFA6BE167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022B-DE9D-4A27-8F3B-C661FF25D06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04D4-B780-4BB3-B8B7-4899469CE2D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64D6-51FF-46F0-B36F-36E0F8892BA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149E-314F-4D13-BC7A-F9B7F99FD98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B8D0-54F5-45E0-BFC9-B5B776C8EFA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A18B-5E15-456F-93CE-C8F1C80C10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21A8-1377-49C6-BE25-703BD6896E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4D4B-A1D8-4005-AFEF-201252E213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501-234C-40BE-BAA4-2FC8AC98DA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1E80-0A56-44C8-B2F9-A89B43635BD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6D2E-3BFC-421D-B7AB-137CCC12357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193C-1D61-4CDE-B0FB-6B7BEAD9732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9DA7-A430-45F7-BDEF-EA1159BDAE2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F0F0-7164-4BFA-BA94-CC05936AE13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5D6F-FAB5-4569-9B77-95436713B0F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27CD-344F-48BB-9823-0D9A737540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5077-245C-4757-A224-9EF542A9C21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74C3-E765-467E-9B47-2759088545D6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8427-B1E0-48E0-AECE-A5A40BC6333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DA7D-8660-4978-9F8F-0F4D6B04372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FD12-F131-4763-B249-BF0406FC0B5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FD116-101D-46E2-8545-A17305969E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A1556-F8B3-4CB4-8EB7-1CDB7C29B49A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2852-16FB-483A-A67A-642EE366AE9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1F37-87F7-4180-A031-48BF7E2558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1A22-3A8D-4229-9F39-15BEF6F50D4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67F-639E-4519-BE0C-7C3F42796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40CC-AEC7-4210-9088-F7F8943C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A60-79B3-45AA-BE42-5D00F0745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FE5B-FFA2-4194-A9A0-26FF836B4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DDA-EE92-49E1-979A-EB2D8CBD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F60-4EBB-4631-9CE6-2B75AE41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5C01-4943-43E8-8FC7-4A6B1975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AFC2-382F-457E-885F-0190456E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6D42-30F7-433D-9F9D-3F58EFAA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A64F-F027-4CA8-B257-D720D486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E972-E528-4621-8EFE-9FEE7FCE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6AC-9574-4F9B-A225-3A96ABF4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B287-5697-425E-9EAB-B14246C408B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72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" name="Picture 1" descr=""/>
          <p:cNvPicPr/>
          <p:nvPr/>
        </p:nvPicPr>
        <p:blipFill>
          <a:blip r:embed="rId2"/>
          <a:stretch/>
        </p:blipFill>
        <p:spPr>
          <a:xfrm>
            <a:off x="7162920" y="6419880"/>
            <a:ext cx="1782720" cy="26676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7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8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9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2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35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1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0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2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4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336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1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3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4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06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estfall &amp; Young Minimum p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pproach to multiple testing used in genetics more powerful than Bonferroni approaches when lots of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s obtained p-value with minimum of p-values obtained in data sets obtained by randomly allocating people in original data set into groups (bootstrapping); Repe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djusted p-value equals Number of minimum p-values &lt; observed p (Available in R &amp; SAS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8520" indent="-30852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471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29th Nov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77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14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20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8-11-15T14:52:54Z</dcterms:modified>
  <cp:revision>115</cp:revision>
  <dc:subject/>
  <dc:title>Aims and Objectives</dc:title>
</cp:coreProperties>
</file>